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7B1A-F97A-4AFF-923A-FAF73E2D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F20-4838-4BB8-B5AF-AF2BD7FF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AD4-227F-45FC-BC2D-3D2A6213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535-1DAA-4154-89E4-F46A2F821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5C5-D3DB-404C-AEF9-F4B812DF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FDEC-F1BC-407C-8582-01D9AF38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BA3-0C3F-4C25-ABEB-973F1D02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1FE-ABC6-4E4D-A19D-9446A9C8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D84-1C42-4460-83BB-AD42FAC4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1A0-5A4B-42FA-86EB-F9CA0F99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6350-AD2E-428C-8F59-13E8BC75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6C82-45F6-4F18-8241-B0DDE75A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376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1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13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8160"/>
            <a:ext cx="289728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1DFF7-E2D3-4446-836B-55EAA8A2F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80360" cy="54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Konferencia k problematike mládežníckeho futbalu na strednom Slovensku</a:t>
            </a:r>
            <a:br>
              <a:rPr sz="4000"/>
            </a:br>
            <a:br>
              <a:rPr sz="4000"/>
            </a:b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(Banská Bystrica, 28.03.2014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403280"/>
            <a:ext cx="9144000" cy="52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Implementovať charakteristické znaky „Slovenskej futbalovej školy“ do športovej prípravy vo futbalových kluboch (metodika vo futbalovom tréningu), t.: priebežne,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Inovovať systém práce s futbalovými klubmi s licenciou mládeže SFZ (ÚTM a Grassroots), snažiť sa o zmenu systému podpory športových tried, t.: priebežne,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ľa potreby aktualizovať smernicu o licenčnom systéme mládeže SFZ, t.: priebežn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lupracovať s futbalovými klubmi pri prenose dominantných znakov hernej koncepcie reprezentačných výberov SR, t.: priebežne, od 01. 07.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ájsť optimálny model fungovania a štruktúry mládežníckych súťaží v SR, t.: do 30. 06. 201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praviť systém diagnostiky vo futbalových kluboch (jednotné testovanie reprezentačných družstiev SR a aj vo futbalových kluboch, diagnostika trénovanosti, testovanie všeobecnej a špeciálnej motorickej výkonnosti, diagnostika zdravotného stavu), t.: 30. 06.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ájsť optimálny model financovania futbalových klubov s Licenciou ÚTM a Licenciou Grassroots, t.: 31. 12.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systém kontroly činnosti futbalových klubov s Licenciou ÚTM a Licenciou Grassroots (financie, tréningový proces), t.: 30. 06.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praviť možnosti prechodu futbalových klubov s Licenciou ÚTM na systém futbalových akadémií, t.: 30. 06.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1461960"/>
            <a:ext cx="914400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rozvoja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výšenie evidovanej futbalovej základne, t.: priebežne,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systém podpory základných škôl, stredných škôl a menších futbalových klubov, t.: 31. 12. 2016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iť akcie pre amatérov, zdravotne a sociálne znevýhodnených (turnaje, športové tábory, vzdelávanie, semináre, besedy), t.: priebežne,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ozvíjať školský futbal na úrovni základných a stredných škôl (organizácia turnajov, letné futbalové sústredenia, vzdelávanie a besedy pre učiteľov a žiakov), t.: priebežne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pularizácia futbalu na Slovensku prostredníctvom podpory masového futbalu, t.: priebežne, od kalendárneho roka 201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ískať v UEFA Grassroots charte minimálne 5 hviezd – v novom systéme striebornú medailu, t.: 31. 12.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1461960"/>
            <a:ext cx="91440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echnický úsek SFZ sa v oblasti športovo – talentovanej mládeže zaoberá hlavne prácou s talentovanými hráčmi v Útvaroch talentovanej mládeže a vo futbalových kluboch s licenciou Grassroots. Hlavným cieľom technického úseku SFZ v systéme starostlivosti o športovo – talentovanú mládež je zabezpečiť možnosť prechodu na systém futbalových akadémií a vytvoriť talentovaným hráčom optimálne podmienky na ich futbalov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arantom pre oblasť starostlivosti o športovo – talentovanú mládež je manažér úseku mládeže a rozvoja SFZ, ktorý je zodpovedný za prípravu koncepcie v oblasti starostlivosti o športovo – talentovanú mládež a aj za jej plne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Hlavnými úlohami v oblasti starostlivosti o športovo – talentovanú mládež s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1461960"/>
            <a:ext cx="9144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Metodika tréningu vo futbalových kluboch (znaky „Slovenskej futbalovej školy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 vypracovaní koncepcie „Slovenskej futbalovej školy“ je cieľom jej charakteristické znaky realizovať nielen na úrovni mládežníckych reprezentačných družstiev a družstva SR 21 a SR A, ale aj v tréningovom procese vo futbalových kluboch s Licenciou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Tieto znaky sa budú objavovať aj v obsahovej náplni teoretickej a praktickej výuky jednotlivých školení vo vzdelávaní trénerov a budú smerodajné pre celkový profil absolventov školení trénerov na Slovensku, pretože práve budúci absolventi budú tieto znaky implementovať a  využívať v príprave talentovaných hráčov na Slovens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ieľom jednotnej metodiky je zabezpečiť transfer požiadaviek na jednotlivé hráčske funkcie a organizáciu hry reprezentačných družstiev do futbalových klub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1461960"/>
            <a:ext cx="914400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2. Systém práce s futbalovými klubmi s Licenciou mládeže SFZ a so športovými tried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hodnotiť a prispôsobiť požiadavky na vytváranie a fungovanie športových tried na základných a stredných školách k podmienkym súčasnej dob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efektívny systém kontroly a poradenstva vo futbalových kluboch s Licenciou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odborných seminárov pre trénerov mládeže vo futbalový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ktívne zapájanie sa pracovníkov SFZ hlavne do obsahu tréningového procesu vo futbalový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1461960"/>
            <a:ext cx="91440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3. Smernica o licenčnom systéme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ebežne aktualizovať Smernicu o licenčnom systéme mládeže v súvislosti s meniacou sa legislatívou SR a aktuálnym vývojom futbalu u nás, v Európe a vo sv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mienky na udelenie Licencie mládeže SFZ zosúladiť v čo najvyššej možnej miere s Klubovým licenčným systémom a so zreteľom na umožnenie prechodu z Licencií ÚTM a Grassroots na futbalové akad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1461960"/>
            <a:ext cx="9144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4. Prenos dominantných znakov hernej koncepcie reprezentačných družstiev 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do tréningového procesu vo futbalový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bezpečiť transfer požiadaviek na jednotlivé hráčke funkcie hráčov reprezentačných družstiev do futbalových klub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bezpečiť transfer prvkov základnej organizácie hry a koncepcie reprezentačných družstiev SR do futbalových klub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striedky na zabezpečenie transfer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odborných seminárov a pracovných porá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ávštevy futbalových klubov, účasť na tréningovom proces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rola a poradenstv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istribúcia odborných materiálo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odborných stáží pre tréne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1461960"/>
            <a:ext cx="91440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5. Štruktúra mládežníckych súťa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ájsť optimálny model fungovania, štruktúry a pravidiel mládežníckych súťaží v SR so zreteľom na špecifiká jednotlivých vekových kategórií, vývojom futbalovej hry u nás, v Európe a vo sv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hliadnuť pri vytváraní štruktúry mládežníckych súťaží na špecifiká profesionálneho a amatérskeho mládežníckeho a seniorského futb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optimálny model riadenia futbalových súťaží mládeže a seni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1461960"/>
            <a:ext cx="91440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6. Diagnostika vo futbalový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ktualizovať požiadavky na diagnostiku hráčov vo futbalových kluboch v súlade so súčasnými požiadavkami na hráča vo futbalovej h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ktualizovať batériu testov zameraných na testovanie všeobecnej a špeciálnej motorickej výkon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ipraviť podklady na hodnotenie hráča nielen v tréningovom procese, ale aj v záp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ktualizovať požiadavky na zisťovanie funkčného a zdravotného stavu hráč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osúladiť požiadavky na diagnostiku hráčov reprezentačných družstiev s diagnostikou vo futbalový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1461960"/>
            <a:ext cx="9144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7. Financovanie futbalových klubov s Licenciou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ájsť optimálny model financovania futbalových klubov s Licenciou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ískať partnera pre oblasť starostlivosti o športovo – talentovanú mláde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sadiť v legislatíve SR možnosť väčšieho objemu finančných prostriedkov získaných nielen pre futbal, ale celý šport v S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9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23335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611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kteristika technického úseku SF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ký úsek SFZ sa zaoberá piatimi hlavnými oblasťami riadenia futbalu v S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ť národných tímov (SR 15 – SR “A”, WU 17 – W “A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ť vzdelávania trénerov (UEFA “PRO”, UEFA “A”, UEFA “B”? Grassroots “C”, špecializované licencie: brankári, kondiční tréneri, UEFA Elite You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ť starostlivosti o športovo – talentovanú mládež (regionálne a oblastné výbery U 12 – U 14, regionálne turnaje U 14, letné športové tábory U 12 – U 13) a práca s ÚTM a FK s Grassroots licenci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lasť Grassroots futbalu (školský a amatérskyfutb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ť ženského futbal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ozvoj ženského futbalu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1461960"/>
            <a:ext cx="9144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8. Kontrolná činnosť vo futbalových kluboch s Licenciou mládeže SF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iť efektívny systém kontroly futbalových klubov s Licenciou mládeže SFZ (tréningový proces, financovani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Cieľom kontrolnej činnosti je nielen samotná kontrola, ale aj vyhodnotenie a návrhy na zlepšenie činnosti a fungovania futbalových klub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1461960"/>
            <a:ext cx="9144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starostlivosti o športovo – talentovanú mláde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9. Futbalové akad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Licenčný systém mládeže SFZ pripraviť tak, aby bol možný aj pri zmene legislatívy SR plynulý prechod na systém futbalových akadémi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prava podkladov pre vznik futbalovej akadémie SFZ, regionálnych futbalových akadémií a futbalových akadémií zriadených pri futbalových kluboch (licenčný systém, financovani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1461960"/>
            <a:ext cx="91440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rassroots futbal ako súčasť činnosti technického úseku SFZ znamená vo svojej podstate tzv. „futbal pre všetkých“ (amatérsky futbal, futbal mládeže do 15 rokov, futbal pre zdravotne a sociálne znevýhodnených, mebnšiny, atď.). V činnosti strešnej organizácie futbalu v Európe UEFA je na túto oblasť kladený veľký dôr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arantom pre oblasť rozvoja Grassroots futbalu je koordinátor SFZ pre Grassroots futbal, ktorý je zodpovedný za prípravu koncepcie v oblasti rozvoja Grassroots futbalu a aj za jej plne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Hlavnými úlohami v oblasti rozvoja Grassroots futbalu s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461960"/>
            <a:ext cx="9144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. Zvyšovanie evidovanej futbalovej zákla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enie optimálneho modulu na evidenciu všetkých grassroots hráčov – ISSF pre Grassroots futb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enie novej školskej súťaže v minifutbale pre kategóriu U 8 v spolupráci s partnerom (podmienka účasti v súťaži bude ko-edukované družstvo s minimálne 1 žiačkou – zvyšovanie členskej základne dievča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enie novej futbalovej súťaže univerzít v malom futbale pre družstvá chlapcov vysokých škôl (zapojenie 15-20 univerzít, vyvrcholenie finálovým turnajom na ihriskách 1 univerzity: 2-dňový festival vysokoškolského futbal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strešenie futbalových líg veteránov (35-50 rokov) odohrávajúcich sa v rôznych regiónoch Slovens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ozvoj plážového futbalu a futs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1461960"/>
            <a:ext cx="9144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2. Systém podpory základných škôl, stredných škôl a menších futbalových klub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školení a vzdelávaní manažérmi vzdelávania a Grassroots koordinátormi v jednotivých regiónoch pre učiteľov ZŠ a SŠ, rodičov, hráčov a trénerov z menších futbalových klubov na získanie UEFA Grassroots „C“ licen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teriálna podpora škôl – víťazov  a organizátorov jednotlivých kôl školských súťaží (napr: Dôvera Školský pohár SFZ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ateriálna a finančná podpora mládežníckych družstiev v menších klub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a klubov pri založení dievčenských družstiev už od kategórie U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a spolupráce menších futbalových klubov so základnými škol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krúžkov futbalu na základných školách každý týždeň počas školského ro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tréningových jednotiek pre deti a mládež v menších kluboch profesionálnymi trénermi z Útvarov talentovanej mládeže spojené s prednáškou pre trénerov mládeže z klubu 1 x mesač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lupráca klubov a samosprávy na miestnej a regionálnej úrovni (udržiavanie mini ihrísk a ich bezplatné využívanie mládežníckymi družstvami lokálnymi klubmi a školami pre krúžky futbal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1461960"/>
            <a:ext cx="914400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3. Systém podpory akcií pre amatérov, zdravotne a sociálne znevýhodnený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a a organizácia turnajov v jednotlivých regiónoch Grassroots koordinátor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lupráca so Slovenskou federáciou nepočujúcich športovcov v oblasti futbalu nepočujúcich športovc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lupráca so Slovenským hnutím špeciálnych olympiád v oblasti unifikovaného futb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olupráca s partnerom v oblasti existujúcej súťaži  detí z detských domov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tvorenie dlhodobých súťaží – mini turnajov pre zdravotne znevýhodnených športovc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čleňovanie zdravotne  a sociálne znevýhodnených športovcov do „futbalovej rodiny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športových táb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školení a vzdelávaní pre učiteľov a trénerov sociálne a zdravotne znevýhodnených športovcov – futbalist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besied s osobnosťami slovenského futbalu v jednotlivých regióno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1461960"/>
            <a:ext cx="914400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4. Rozvoj školského futb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ozvíjanie školského futbalu na úrovni základných a stredných škô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krúžkov futbalu na základných školách každý týždeň minimálne 1-krát počas školského roka učiteľmi TV, učiteľkami TV, hráčmi a trénermi z miestneho klubu, pripadne rodičmi (všetci musia byť držiteľmi Grassroots „C“licenci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a a organizácia školských turnajov v jednotlivých regiónoch Grassroots koordinátor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 pre školy - „O majstra školy“ - súťaž na základných školách medzi triedami v hre 4 na 4 so zapojením min.1 hráčky v tíme v kategóriách U7 - U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futbalových sústrední na škol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školení a vzdelávaní pre učiteľov TV, učiteľky  a rodičov na získanie UEFA Grassroots „C“ licen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besied pre učiteľov a žiakov na školách s hráčmi, trénermi a osobnosťami slovenského futb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1461960"/>
            <a:ext cx="914400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5. Popularizácia futbalu na Slovens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pularizácia futbalu na Slovensku prostredníctvom podpory masového futbalu (hry 5 na 5, resp. 7 na 7 u detí a dospelých v rámci klubu na takej istej úrovni ako futbal 11 na 11- ako prostriedok rozvoj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futbalových podujatí pre deti a mládež – futbalových festival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športových táborov – futbalových kempov počas školských prázdnin v rámci celého Slovenska pre hráčov a  hráčky v kategóriách U 7 – U 10 a U 11 – U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á Grassroots súťaž bude mať svojho patróna turnaja, ktorý by sa zúčastňoval jednotlivých kôl spojených s autogramiád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čas krajských kôl školských súťaží (hrajú sa na ihriskách ÚTM) sa odohrá exhibícia súčastných a bývalých ligových hráčov usporiadajúceho FK (ÚT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odpora fan – klubov ohľadom popularizácie futbalových aktivít a potešenia byť aktívnou súčasťou futba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1461960"/>
            <a:ext cx="9144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ncepcia rozvoja futbalu na Slovens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V oblasti Grassroots futbal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6. Získavanie UEFA Grassroots hviezd, v novom systéme medail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kompletizovanie podrobnej databázy Grassroots hráčov zo ISSF pre Grassroots futb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vyšovanie počtu zapojených dievčat do futbalových súťa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umarizovanie rastu ženskej členskej základne v priebehu posledných 3 rokov ( podmienka získania striebornej hviez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alizácia trénerských kurzov pre dievčatá, učiteľky TV, bývalé hráčky na získanie Grassrooots „C“ licenc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Organizácia Galavečeru Grassroots futbalu na Slovensku (predstavenie jednotlivých víťazov Grassroots súťaží, oceňovanie Grassroots hráč roka, Grassroots tréner roka, autogramiáda s pozvanými hráčmi a trénerm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1415880"/>
            <a:ext cx="91440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počet Úseku mládeže a rozvoja SF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droje financovani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UEF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I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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árodné tímy    Športovo – talentovaná mládež   Školské súťaže  Grassroots  Projek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i, spon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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y   Súťaže   Turn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23335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1611360"/>
            <a:ext cx="9144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čná štruktúra technického úseku SF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íl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1415880"/>
            <a:ext cx="9144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počet Úseku mládeže a rozvoja SFZ na jeden súťažný roč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ládežnícke národné tímy U 15 – U 20, WU 15 – WU 19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0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Športovo talentovaná mládež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6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ÚTM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76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ssroot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Z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ÚTM / 1 súťažný ročník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37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éneri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4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innosť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10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Z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3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Grassroots / 1 súťažný ročník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9 5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én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3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innosť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3 5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Z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3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1415880"/>
            <a:ext cx="9144000" cy="52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zpočet Úseku mládeže a rozvoja SFZ na jeden súťažný roč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kt Grassroot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10 000,-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izované projek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álne turnaje U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né športové tábory U 12 a U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íprava oblastných a regionálnych výberov U 12 – U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strovstvá Slovenska starších žiak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Česko – Slovenský pohá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ová sezóna mládež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 Champions Leag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pora organizácie nepočujúc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pora súťaže pre detské domo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pora unifikovaného futbalu pre mentálne postihnutý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Školské súťaž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ôvera – školský pohá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ca Cola C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cDonald’s C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1415880"/>
            <a:ext cx="91440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žnosti – zdroje financo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isterstvo školstva, vedy, výskumu a šport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ové pouk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zdelávacie poukaz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yužívanie CV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štruktúra osobitného význa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ovanie významných medzinárodných a tradičných poduja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http://www.minedu.sk/uzatvorene-vyzv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y pre mládež na roky 201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202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minedu.sk/programy-pre-mladez-na-roky-2014-2020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y pre mládež 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ttp://www.minedu.sk/programy-financnej-podpory-aktivit-deti-a-mladeze-na-roky-2008-201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1415880"/>
            <a:ext cx="9144000" cy="31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žnosti – zdroje financovania a inej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Úrad vlády splnomocnenca pre š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ácia Slovenskej Sporiteľ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ttp://www.nadaciaslsp.sk/stranka/futbal-to-je-hra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úkromné spoločnosti, partneri, sponz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está, obce, VÚ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F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Granty EU, štrukturálne fon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EFA, FIF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1415880"/>
            <a:ext cx="914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agácia futb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a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hl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onálna úrov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oslovenská úrove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F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1415880"/>
            <a:ext cx="914400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bal u nás a v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ZDI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NOŽSTVO FINANČNÝCH PROSTRIEDKOV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1415880"/>
            <a:ext cx="914400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bal u nás a v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I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NČNÝCH PROSTRIEDKOV VO FUTBALE (V ŠPORTE) V BLÍZKEJ BUDÚCNOSTI VÝRAZNE VIAC NEBUD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1415880"/>
            <a:ext cx="914400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bal u nás a v zahrani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NŠTATOVAN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J S NIŽŠÍM ROZPOČTOM SA DÁ ROBIŤ KVALITNEJŠI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1415880"/>
            <a:ext cx="914400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BALOVÁ HRA SA STÁLE VÝVÍJA – IDEME S VÝVOJ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415880"/>
            <a:ext cx="9144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ÍME VŠETKO PRETO, ABY BOL CENTROM POZORNOSTI PRODUKT – TEDA MLADÝ HRÁČ A JEHO VÝVOJ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617840"/>
            <a:ext cx="914400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balové kluby s licenciou mládeže SF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úťažný ročník 2013 / 2014 (nový licenčný systém mládeže SFZ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ÚTM: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ssroots: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1415880"/>
            <a:ext cx="91440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 ŠTÁT PRIPRAVENÝ POMÔCŤ ŠPOR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1415880"/>
            <a:ext cx="91440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 “FUTBALOVÁ RODINA” JEDNOTNÁ A PRIPRAVENÁ POMÁHAŤ SI NAVZÁJOM A “ŤAHAŤ ZA JEDEN KONIEC POVRAZU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0" y="141588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Ú VŠETCI ŠPORTOVCI SCHOPNÍ BYŤ “JEDNOTNÍ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141588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CUJEME TAK PROFESIONÁLNE AKO BY SME MOH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1415880"/>
            <a:ext cx="9144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ámety na diskusi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DE ROBÍME CHYB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415880"/>
            <a:ext cx="9144000" cy="43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1617840"/>
            <a:ext cx="91440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Štruktúra mládežníckych súťaž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úťažný ročník 2013/2014 – dorastenecké súťaže (nový licenčný systém – len pre FK s licenciou ÚT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SD: 14 FK (Ú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U 19, U 17 + U 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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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ligy  –  regionálna  úrove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1617840"/>
            <a:ext cx="914400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Štruktúra mládežníckych súťaž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úťažný ročník 2013/2014 – žiacke súťaže (nový licenčný systém – len pre FK s licenciou ÚTM a Grassroot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liga:14 FK (BFZ+ZsFZ) 1. liga:10 FK (SsFZ) 1. liga:10 FK (VsFZ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 15 + U 1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ligy  –  regionálna  úrove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liga:14 FK (BFZ+ZsFZ) 1. liga:10 FK (SsFZ) 1. liga:10 FK (VsFZ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 13 + U 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 ligy  –  regionálna  úrove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1617840"/>
            <a:ext cx="9144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avidlá U 12 + U 1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ráči: 7 + 1,lopta: č. 4, brány: 5 x 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282760" y="3159000"/>
            <a:ext cx="509760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6178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avidlá U 11 + U 10 a U 9 + U 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10 a U 11: hráči: 5 + 1, lopta: č. 4, brány: 5 x 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8 and U 9: hráči: 4 + 1, lopta: č. 3, brány: 3 x 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206880" y="2925720"/>
            <a:ext cx="272556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onferencia k problematike mládežníckeho </a:t>
            </a:r>
            <a:br>
              <a:rPr sz="24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utbalu na strednom Slovensk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161784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ÚTM a Grassroots – licenčné podmie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Športové kritér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štruktúrne kritér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álno – administratívne kritér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ávne kritér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čné kritéri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stupne kritéri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A – povin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B – povinné s alternatí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C – odporúč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19:12:09Z</dcterms:created>
  <dc:creator>ABC DSA</dc:creator>
  <dc:description/>
  <dc:language>en-US</dc:language>
  <cp:lastModifiedBy>Peter Stefanak</cp:lastModifiedBy>
  <dcterms:modified xsi:type="dcterms:W3CDTF">2014-03-28T13:06:36Z</dcterms:modified>
  <cp:revision>105</cp:revision>
  <dc:subject/>
  <dc:title>Plánovanie, evidencia a dokumentácia  vo futbale</dc:title>
</cp:coreProperties>
</file>